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4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dt" idx="1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move the slide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ftr" idx="1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 type="sldNum" idx="1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8A61-5CD6-42E2-9546-692045307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6B11-9429-4EF8-9DB9-5896108E6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5555-55BB-463E-8FE1-170FB1267D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анимацию на печат маш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,  требующие особого внимания в организации подготовки к проведению ГИА-9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и разъяснительная работа с участниками ГИА-9 и их родителями (законными представителям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тавки участников ОГЭ при сдаче экзаменов по выбору в ПП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оснащение ППЭ по физике, информатике и ИКТ, иностранным язы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 контроля со стороны Рособрнадзора за организацией  и проведением ОГ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http://fipi.ru/ ; oge-i-gve-9/g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организаторов, включая    руководителей ППЭ  и работы по привлечению  общественных наблюд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общая задача – обеспечить подготовку к ГИА на высоком уровне и выполнить установленные требования к прозрачности и честности проведения экзамена в полной м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314-AA2D-4A46-A77C-2937CF039F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465B-ACD5-4DC3-A06F-F1B53DF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C253B-F0D8-4BA4-BC0A-38DFDD3B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BF9B-11F7-433E-9013-90960D4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3520C-ACA6-4712-832B-C03EE72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D943-F277-4FE9-A3BE-DDDF85B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5A704-8418-4B92-B71D-3DBB676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3BAE4-B97C-4559-8981-A635554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65649-1C71-4890-BC79-5AA7E170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2793-D53C-4073-8AA5-83D113C7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4BB7D-048F-4C34-9225-4E8B4703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CB9B4-59F1-4606-A91D-E2ED2786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9CE50-B8C0-4C0E-A870-D14607BA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78706-E3D1-41B1-8467-09B60FD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6FC65-66B4-4DD0-B2ED-7FF4EE08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A0456-5B25-4385-BD03-50BEF894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BACE2-3A5A-4F0D-BF88-94EA2DBB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53660-4504-4E8F-BF0D-E6B8E57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DAE99-52D4-4CF1-B1FD-4147765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F84F6-B7FA-40AC-8D57-547FE393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C2F5D-72A6-4556-8CA0-765CEAFC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ED8C5-FBC1-4656-B9B0-630C96EC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2B2DB-AA14-46EE-A1FC-39289E61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10859-0036-43DC-9178-A006B81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9FEFB-9C17-4CB4-9926-BAC25C51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ED23-C5EF-415A-A4A3-D84B195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ECDAD-155A-406A-9970-F50FF91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469B5-FE7C-483E-A95C-D7D0501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EE57-E080-4096-807F-8FC0602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0F66C-F924-47A9-A185-1B1D122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F1FDB-8CC4-4625-A426-7E97087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3F-F0CB-4CA9-9573-45A137B4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A1CE8-13A9-4C2F-B1E8-9B5C17EC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86E46-1A89-4988-934A-E8AA3FF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23194-21ED-4E1A-9448-350C7352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03B4-9A7B-4A97-BD1E-967A3E52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DA5BF-B210-44C3-8627-488B8B3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0C660-CE27-4C0D-9EB4-53C77762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FCFE-9AE8-4C95-8467-AAC93E00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13BA3-2659-4F20-BA9B-0B79163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0AB5B-A5CB-4137-BD0F-430D6B6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DC88-6132-4E3F-BEEB-D0C84A9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6FD-A89B-4A14-8BBF-A854C09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CA6A4-FB34-43B9-81C3-3A52D40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BD72-6E29-4926-B982-9EE35C2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B787A-416D-4ECF-8E54-53A669CF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FE7A1-1BBF-4214-81F0-41E701EE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00B68-1F94-4C73-A1BC-26123886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73B00-CEA7-45B1-BA8E-E2B2FC98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21EB5-25BE-4766-9198-C95629D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738FC-08EE-4310-A2B7-3562EAA4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E94B-D3D9-4B86-8C67-930104D3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164B-55CF-459B-835E-D75404B6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5DA-1D4F-4116-9303-D6856F2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E0DB0-9940-47D9-90C8-CB071DA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90B05-9525-4833-B2B8-588FD9E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3B71A-7C1A-4420-8D81-5D5BE957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7C22E-165B-425A-9401-E620BD4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E9C58-3F36-480B-B9EC-A27B96ED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E81C4-9F2E-42D2-A68C-7D4CA4A5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8F836-D499-43E2-9043-767BC68E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86343-8DE0-4653-956A-F25CDC0B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79A8C-74F0-451E-BE9E-B0D5D70C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0D327-38F6-43F2-818A-013BF9E3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99D-D88D-47E7-B735-06039D1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EA821-5F8B-4A12-87BF-83BFF5AD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B2D66-6D42-4AD8-B508-6105FC36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B8F83-C9B2-45B8-B103-85B0E7F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D942B-0661-43F5-A2FC-F9AC197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B0825-5A0C-4D83-A767-F669F71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99579-62DB-451C-A130-83A493E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AC244-DF0F-4C37-A273-FBCCBCEE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D650B-1F36-4B7A-AA99-F53E09B5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CEAC7-D083-4A3E-B4D7-0616E5B2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4C36F-CFE8-456D-91FD-16BB70D9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A62-29AE-4330-920E-8EA114B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9E53E-563F-4E1B-9207-4C29000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8FD35-1DA4-40FC-AA93-E173DA8A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2AF75-7FD3-4C62-9B8E-1F661C33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7693A-E4C2-4AFA-9489-69A37F55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312F9-2E97-4BEB-B88F-CC5369A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1EA32-D5F2-4114-B026-5B40AE9F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BC720-A906-42BF-A234-95C61D6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90F02-6712-4470-A88E-D702851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32AF4-839E-4D80-8244-701A45F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FCAE0-06D3-4242-9816-1304F9C6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6CF-F782-44B5-9632-346C1273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8A4C1-FA93-4CA5-86FF-5F0342B6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53A36-6AB0-4135-B9E3-ED751543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688D6-A455-4C72-A4EB-8DEE9D90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8D25B-D0BE-468C-8722-0FD35E0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45333-5420-4B05-B90C-CEBEA14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B96DC-4859-42E9-A335-7CE78515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B4E91-52EF-49C2-9C1C-91B2402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BD1D9-D693-445E-B877-78F8BE6C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6053E-8317-4CB0-B4C3-6B607FEC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2ED85-F473-49F7-B51B-6261960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B54-AC8E-4CB5-9DA5-CD72394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DB828-2608-42A3-A870-0D1A849A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B2C42-81E1-4D10-BEB4-194EAE5C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250D0-A84E-4D07-BF09-341A0502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28153-F7A8-425F-B292-8C39B6E0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BE51A-4834-4233-A069-3004E07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6988A-3EA5-42DC-BB74-26B0324D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6851C-3A6A-41ED-9132-E4A4B70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3B4B2-C6A3-4762-A1F6-78D224B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274FB-EFC5-4B0C-88FE-52A96231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7AF4D-9F1D-47AA-8C95-244D2F8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27AA-98A5-4224-BC99-C594008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032A6-CF7D-410B-AA43-03B05B80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434F3-0438-4957-BE8E-3454DB8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71CF2-69CF-442B-A140-CA44D6AB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90984-F197-4DBD-9EA7-81C2E43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47247-89C5-451C-B65A-11293AEC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69396E-C5E3-40FE-B2AC-00CE1F25594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D0D1F11-CB0C-4AAC-BC60-9407F1ED076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059311-3A88-40F1-8EB5-9A302B33F26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C85BED-B2DD-47C7-824C-B305822E5D8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E73E59-80B1-422B-9BEE-9A55C92991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C58-484C-4574-A122-BB898F0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7518B9-E111-4B05-AEC9-8F9F5D5CF31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11C89A-16B6-4E74-B2BE-E9C6E43EB01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8AE2F4-6F3A-49F4-8C6B-6E41CAF6D46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C8D45E-0D95-43DC-859D-2B7D8345037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11439D-2781-4D36-8645-E35FBD3B1F4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F4769E-6659-4708-9E14-E692268FF01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091080-78E0-425F-A33F-A6B8F7DE3A2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63A500-9284-44BF-8995-67EA30F3D60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DE5351-CCFC-406D-9A6D-7A5CE8C0464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CDB9BF-87B1-4708-A825-883353DBDB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FA2-CBC1-4572-9496-D3389BF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9C26B2-6A09-4020-AC0D-3124CC8DC59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7CA8D3-D15D-462D-8FC9-35A4ECDFE3A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61B042-27A1-4FF7-A365-E141623BE09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4F78C9-FBC7-45D7-90DA-8AE7047FA6D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D1563C-3362-483D-84A4-E6C05097993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0A241B-1666-4C1D-A0FB-F9D0FFEC587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FB714A-EAC4-43A7-B994-22F0E86BDB2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29C692-6617-4623-B345-ED97D5EF4B2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430CBC-DBB1-46D7-890A-490AD5F3F50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E16310-9156-41CD-877A-7E063D14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D4D-53CD-4BE8-830A-1495EA1A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F18E9E-A2EC-4099-B04A-8D6BEC4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2ACA19-67D7-4179-A78A-EF87DA2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5CB069-7112-401E-BBA6-EE987948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8A5FA5-073C-497D-B175-14E8131C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4AEBE7-CA1F-4B42-9CD3-965EB4CF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BCF98C-2145-4753-8E75-059A7755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81D5A0-3E4B-4005-88A4-DB494BF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7F3DB06-C563-4DE0-AC38-6A83F45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3419D8-9225-4F98-AD73-13F8805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1528EF-669C-4F22-BA15-84B8BAF3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0E6-DBB2-4309-9594-FED9296B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483C97-B873-44D1-BA41-1A29E4D6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968BFB-8324-41E1-B89D-AEABAF08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3B35C1-8B50-44B2-9D47-87770641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96C2BA-9249-4528-97F8-31007DBB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69DBB4-DDCD-49AD-988C-0966E484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B985B9-E05D-4BB6-84EE-FB4439F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AD4A9A-24EA-41C5-AAFE-683064AC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715D35-C58E-481B-BF2E-9DD352D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F80338-9D09-4223-985E-362C9A9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0BF533-ECA4-48A7-BEAE-807DB97A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E725-93FE-421E-B8DE-E41F68A5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5364B8-9229-45BD-AFCA-18398EE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6F0656-539A-48D7-8DEA-43EA5349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D29102-7B9C-4BA4-950E-F216A99A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168155D-8344-45EC-BBCA-6242E1F2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85FA926-AD46-41C9-BEC4-44B2B6B3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871CF1-ECFD-4961-9398-4CCBAB27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0C4CD9-995F-4274-A0C9-9070DEFC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15C34F-3E7A-4E60-9CBE-16BEAC08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EDFB44-636C-4D82-A17F-C647675C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F90D16-CD5A-4DB6-AEE0-280CC4E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429C-D24B-41ED-8B3E-010A885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E11CDF-A151-4B11-9B75-0396224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F6A64D-4DAA-4173-B8BA-D45747F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3602AF-1BB9-458D-BA39-5B2D61F4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171375C-807E-48C5-960A-A1E4D7F9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E667BA-268E-40C5-A5CB-8B3CF263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D136F0-1A49-4073-8252-9B33E00B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068F0E-03AD-43D8-B5CC-C97E9D44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8E4FBC8-4209-4BEB-AFE7-506F1B04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3FADFE-E1AE-4C06-87BD-7C0B241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CDBF5B-0661-4B37-901B-D2F8B2D7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302B-6FCB-4DE2-A971-282B969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DCA20D-62C8-42ED-B036-5930A67D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CE5DC6B-E31D-44B5-A18E-574DF150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DFB5412-2A1A-4FA6-AC25-503F533B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DE1C078-FCD2-4C8E-8779-7910BE6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F8B1C0D-F645-4430-892C-580384BB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7B8202-0E28-4387-9404-AB62149A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253CB7-362B-45FF-AAC3-7946FAC8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5069C97-77F3-4760-AAD9-C2927CCD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7230C9-9117-4653-B92F-C494524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5B0C330-AAFD-40E8-A610-C9229050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FFE-4FCF-4898-84C3-9E80B36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2BEFB7D-D3AF-4E4A-AC8C-C12C0DD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4659DF-85C4-4359-BC2B-7F259CB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202AF58-7B22-4579-8E8C-31F6CF9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7FE3A83-D311-45B5-9E80-A9EB7FA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6AAD11D-9B33-4498-BF8A-F311C03A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2F0EF4E-4740-4E19-B6FE-9D5CD7C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CE5BF64-CB6D-4742-9C24-303313D9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BEDE6FF-E975-4D15-B31C-4CD6CBF1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D466F15-079E-448A-A95C-2BA587EF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701145-1DBF-4379-B51D-76CBF712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4933-ED56-49FA-91DE-611CCDC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75EA9A6-FEDA-4DA9-BF26-DDAAB338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9EC412-9E64-456D-95CF-20155F56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981871-FF4E-405B-BBC3-E076D18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D60AE6-3D53-4C03-8B88-1126F752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60A521-57F1-4E4C-9083-9777316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8900B2-8D34-46A9-BE2C-E0EEB44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8839926-94FA-4CE7-A907-AFBE105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D0EF1D-5A67-485E-9D73-F748F63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46ADF65-DBC9-42EA-8A4D-A9A66CD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599D07-85B4-483D-A1F8-806AFF7A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D0E0-32B6-4708-8141-A403C925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833C6B-E0A7-4024-94A0-AAA5E228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8A4CCA3-396C-43C4-A537-C1A80B8B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F20DB1E-BA4E-488B-ABD3-01996DA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BCC3CB0-9926-4E15-8AA1-A0DF626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971BB2B-6DB4-47C2-90AF-9246E21A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2BAA611-9E72-4523-8158-79A318E3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603E3D-7B44-4C28-B60D-E2CF2926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34E6CA0-6AD8-46B1-9DAF-6F78FDD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3F407E-1DF3-403B-A53E-8E8E3DA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E51B25-B8DF-4BE7-A3FE-4AB9D1C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454D-E99A-48F7-AFC4-22216A8C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236F6B-274E-418F-9BE4-33A179F1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3776D8A-CF9F-4F32-93B4-10741682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BCDD60-1B15-4A56-8DFC-2D6D5395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3D250F-D1ED-49EC-9D32-EF4C31F1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15B931-4335-4282-A583-9F550DE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8F0F42-5FC9-4C8D-887C-AF9D3E7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5EFBFF-1BB7-477E-A077-F1151B8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BCC3B5-9282-4CDB-976D-B28BF94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DDEDD9-6E8A-4025-8D6E-218C5D3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B84107-2528-4B57-B131-3C94205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08F-B28C-4BDF-9DD1-F2316C21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BF5504A-6401-45DD-AB7A-AC4A996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8E229DC-F6E3-48FE-8270-693FD3E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EBDF1AB-37C2-41DF-BDB4-38318E00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CAE2DCD-0280-4919-816D-44D86D09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6B6EF06-FBD6-4DC9-BFAF-92CF8F47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2C87074-4143-4A51-9962-4738B95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9AC3438-55E4-4EBF-AF90-F5701FBB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375AA0-B9AF-4619-B8A5-EB0CE06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829343C-3BF9-4AD6-BBCD-8C112024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2FB5D3-B4E7-437D-8529-E4CCC17F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C32B-3359-4254-A807-D55E35B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D18473-1809-4073-A13D-964D4B2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C511C4-2E5F-4104-9E74-636C2964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F95406F-378C-43B7-8DBF-D42452EE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1E0009C-A168-478B-8E38-4C9EF331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65D420A-24EF-4E42-B70F-1DA7554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1B8BF5-47B9-4971-A497-2329DF04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58F98BE-DFE3-47E6-AB39-9A2429D9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EB127C-635D-454C-A593-A1F68050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27191D-BC9A-46D1-8B62-DC6815B6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E689E0-70BF-497B-AF35-E806A288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853A-2E4C-46BB-890F-6A4BEF57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8D6C5B-3530-4432-A04B-A730F790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C34AA7-CABA-4DB0-87BE-A3728FAB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A07F97-2DA6-4F6B-ABDB-495BD7F2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879DFF2-F486-49B1-AEE6-2164C41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59A242-BA8B-49EF-8CFC-C79AE3B4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50673C-3115-442C-9FDE-B6FCBE8F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F65BDA-9BF2-48C2-8F50-84B3973A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D11F75-8A33-4023-838C-C9C1F24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6D24F3-F5CF-419F-A6ED-7637E610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D287334-F223-40F8-A0DC-BE4A5A57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9643-2E90-4CA5-9BD7-0709959A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BA1B6A7-157D-4B00-BD96-4EAB5B76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B363953-E9BD-418F-97FE-E95C891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FA15187-75A5-4E12-8BB8-91AA50A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4E0312D-3496-4E6B-B438-EBEFFC8C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4E72D2E-99D5-4A60-B9F8-13A3B305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E1D671-2A62-453C-9043-1A2C5D0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06D5939-C82E-46EB-9072-D762F349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F7C999E-0767-4FC3-A177-CF4FFF8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09E294B-4200-4A40-80BD-EB08C61C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2057D76-666F-46A4-AE52-78AAC698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D449-4D92-45A6-B10B-0D2971F0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05E9D0C-8C07-41D3-8C54-18C89489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011D7F6-162E-4474-9D20-0E020F1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0E6521-A14C-4B8C-8F6E-8FF0326D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D982631-A1A7-4701-A65E-697C6C97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764C186-8B4B-4106-B8CB-89F9FC79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5D98E0-1FD6-49EB-81C1-6F80FCAD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FED8BD4-CD97-4837-816C-9FCC324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CBDC955-063D-4065-BFF6-3A95781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C150DF-C81D-4A53-B7C0-68032B8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DAC608D-2840-4A73-8143-C59867F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0FDD-67CB-4005-A5E4-009EBF91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0E546E2-9191-4F4E-8772-105D7087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5E62E83-9F9D-486E-BFEE-4B64817A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6B9FA22-462F-4473-9B47-C85753F2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742E90-3953-4AFC-9604-D2A367AD13C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EA9553-31BC-4172-A51F-3F384675838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3AF86F-4378-44DA-9BCD-36957129A9C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9AECD0-6DA7-4509-B4B9-7FE2B0C2D96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D50771-402A-4F36-A3CD-D375BBD9CD2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A3798F-073C-4500-B0F1-423F2913095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C2A464-24B2-482D-88D5-06B4722A8D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DB5E-2A4B-4B5C-BD5C-B94CEE74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D19981-03F3-45C0-94A6-60BE33991FD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A39FBA-94C4-4649-BE93-9F4FB0EDF1B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8B5BF5-6118-4C9C-B89A-83673722BF2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40B7B6-285E-4CE9-B5CA-AF680596440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F46DBB-21DB-4E91-95C4-F0AEAFAA3E27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44FCEB8-CB4B-4878-BD80-92425B6C947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ED703B-660F-4612-B9EA-8155862A878A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9E58B5B-97FA-4CEE-8AA0-649935BD072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DFCF507-7AD4-4BF9-8E86-161E9584AD8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8BC541-C44B-4080-B02E-F9AF5B879F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704B-C895-4D10-AD77-814DE73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37C2979-9E50-4F09-9FCA-3382E68C2C9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B7181B1-5062-4942-91FA-9671202B579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602A88B-D1CF-4D7F-B70C-D40C9A70592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2AEFF41-6CAE-4389-86AE-5101EC970AA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C29FB8A-24A3-45DA-A1B0-E2729E11643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6E1D50F-9D91-48D8-8AB0-BF0D99507A79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3FDA1ED-EE9B-467F-BF78-72ABC6C1969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BAB6FED-EFDA-4531-9799-37D9577F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16ED7F-72D5-4611-9F5C-229579F8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E8888ED-C162-4930-AF48-25AE5B68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296A-A771-46F5-9926-AD5A7004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095D217-CB64-44AD-8C0E-D8AB07C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B817F72-CA4F-49B4-81A6-A6131F19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07A0225-1268-431C-884E-804A3977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EC4EE9-92AB-4673-B03E-6F25697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190AACC-61D5-48EE-AEBD-4A70528A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44023E3-EB88-472C-AD29-EA06411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8779A62-B30A-4CF2-91B3-E05DB687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901BE4A-C286-4241-B7DE-7381E465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AB1E21F-015C-429D-AEFB-1BBCACAF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184FCC7-09D7-4E15-8A30-44E76E81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515C-D047-47F0-B1FE-D8EFFB79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9DA2AA8-B555-40F8-9C78-1EA1F6D0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6EFEE1B-8CBD-49BF-B5BB-D26208BA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ABB49E-552F-464E-AC8B-6D62934F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103065C-3657-47F9-9FD4-6D3EBC06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02D6524-C401-440C-A6EF-47FB935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9D57AD-F3E6-42EE-9F27-D2E86197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541A169-E5BE-42D2-877C-B82291F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F606117-D179-4A1F-B848-1FF10C8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B65C8B2-B02E-4EFA-854C-255967DA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7D7613F-082B-4D84-8809-B0B9A005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A0132-85D6-4BBE-87C1-F0C257C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3660E2-BA85-471B-A960-45ECFF26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23F735E-2A2D-4BD0-B312-4079C631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DF9C813-F4EB-4B02-B59A-9D41164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E40FD51-56AC-467B-8E7A-DCC57AC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8C39B7F-F1DD-416F-A60C-985C2FA4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BE0E552-99A8-4C7B-9F4B-4A85133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77C8E86-4F38-48F9-8F92-A061381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4571318-3329-4DE1-9053-9599818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E7FEBC-B69C-41CD-85EF-12B3640F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8DAEB0-660C-49DD-B9A8-CE6BF15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88B42-7FAF-45E9-91D9-34F4584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1ED8314-4778-4A8A-A78E-7B26CD9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4719C40-8429-43CD-8A6B-46855315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868D551-E08F-4182-A26B-A53197A6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9C122BF-CB26-4B0F-98E3-84DDFE4A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C2D76F6-0A87-49C4-A622-ECAA6904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FF31FBF-E297-4AA5-B94E-DDA216A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FACFBCA-68B7-4050-9074-28112A8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B900267-588A-4948-AC95-7599E9B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80E624-D458-4EB8-99A0-51FCED8B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2844F3-04BC-4BEE-9ADC-3327CF9D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4013-C8E1-4BA1-9B3B-3BBBB93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F414D1-8F4B-45C6-AAA2-096E42F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917469-DAD8-42AC-9F4D-1D6FA782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CE25779-F944-415E-980B-B49CCE51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F429724-E694-4639-9EC5-6AF6D4F6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35F8AC4-8DE5-4E82-89A9-AC59EAB3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0A3FC02-4213-48DD-BE00-79EB47CD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0901489-C54D-4FB8-BE3E-8C96930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E7EDB4C-6B1F-442B-86B7-1CF3E26A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D0ACB09-8143-4012-80F6-5AC0377A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96F80A2-CAF8-44A7-AE36-5EC9E2E7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3081-74FB-4A89-88D8-CB4DC04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2D5275B-6621-49EB-84AB-C6BD17AF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6ADFC0A-CBB7-495C-88CB-A9777DD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37E5A8D-A423-4736-8853-3053E436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A2ECB8A-AEB3-4C1D-8F20-83BCCD3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7BA77B6-DF81-4F9D-8873-44C63468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EEF4BC5-1293-454B-B067-D305446C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EC65271-90BA-4343-839C-B96AB9A0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686B9AD-A1C3-4951-A670-E9A1CD60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0FF8958-D762-4F38-A7A8-0DA7394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6FF9773-4F48-4F0F-B7C0-E5A4727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AF80-79AA-4FD6-AB57-20EA5952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CFBAE9E-97E7-48CB-BABA-8A3DC255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8049FD7-640B-425C-8619-7C3C434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C3F5DD-B3FF-4C1C-A37A-C2FDE64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C684ECF-1051-4BCF-89FC-137E7CD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7B328BB-077A-4B6B-A2F5-F7D9F8EA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BB376E6-A759-4418-BF90-B263314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7C02493-D3CA-4FA4-B8DD-ACA38B23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53DD136-5918-4FFD-8DE4-1E7FC170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261071-B700-4337-8591-B359FE2C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26C6288-8221-456D-8B74-5527E9A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4D0D-C5B3-480A-B15C-617B864A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ED61739-7FF9-4F5D-8CCA-CAF8C8F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801692F-C448-4F4D-B843-3AF7DDEA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151EFD4-FCC4-46FC-94E5-4F04AD97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0500AC9-AD4C-424B-B3C5-F934ADBC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914B1C-7685-4DEA-B555-1C802FC6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FE1A0C-0F3A-4CB7-8FCB-5C37EF13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96843D5-91BE-4AC9-8B16-C613C2B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8918862-5330-48E0-9B46-5555CA4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EB6C384-D7E8-4346-BC3A-9A34B40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FEF55D5-368B-40D9-8F42-AB4646D2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1045-993D-442D-BB79-F156124F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6F24F11-3376-4286-AE09-13CE7ACA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DBF3B1B-DC3E-450B-85BF-6AFC8594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F1DC9CD-636D-476C-93AB-2C447BA9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0030963-559B-4F8F-B024-4514EE8E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616C4C8-5D01-4F08-82FA-7C8BA74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6FC3088-CB2D-438A-971F-8E8B30C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D8FD4D7-8624-4067-A1C9-2F5E99F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F9A0FDA-C8CF-40E2-B2A1-8473C4C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76B6814-A19F-4FB0-9B0A-3D90B4D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9AB0D95-713F-47C1-8ED7-109ACDE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F937-6F5E-46D3-8BAE-618588E1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76D4447-3FED-46A2-BAF4-5F3B0DDB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F7F529-8AF4-4002-953F-AAC74148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D2463C6-9AE8-4238-AA75-25211326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2D635D4-5089-4C24-990F-EB64964A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3CAE25A-1A29-4BA1-AB77-3CB7A00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8CBD2B7-5A3D-4A03-B723-24440252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948F898-A46B-45A3-B197-75AF53F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E5D5E2A-BF35-4724-8336-4C256B75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579D183-8EC5-45C0-BEAF-C9ED1DE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BC58E76-6382-4145-8D02-C05A971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113D-E0A6-46C0-9C8A-C1AF4399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A8A3DE6-A720-42C2-8367-378AAD6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014633E-F742-4348-957A-18326154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07D9326-C0A5-418B-BCE4-54172E5D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817B883-14CE-4AD9-BC99-635F0412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27E627C-5198-4059-A959-F186D953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91EBA8B-FBD5-4B56-B704-558A0130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DF97DF4-F490-4CE5-BFB1-DAA95185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957BFFC-12B4-489A-91AB-F13BECB5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3B43F7C-859C-400F-BCE3-98562450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5A0FAF5-18B4-4D81-BF9A-E79A020C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28EF-1D1A-45A9-91FA-6A5BBC7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A31191C-FFE9-457C-AA04-00728074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3234C66-417A-425B-B279-A0EDA75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63BB197-5A06-40CD-A3CE-B268109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A21AB32-229B-4326-AB97-A7B46215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93519AF-F9A8-477C-AF52-13EBAAD5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93203BF-ACD8-4F97-B49B-640E010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2DC4129-45D6-4E3F-9FE6-8836F978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BC983DA-48D5-4D93-A47D-A86C9920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AF15B4F-E29A-4B97-9954-7C97F4BE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FFF3F80-67FF-4D89-9784-E5D6F11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977D-1F13-41E1-8C1E-805C38E1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AC70D6F-A637-4BD1-B6C3-6362BCC6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6B7CD1A-4A4D-425B-9D3A-C7413B6F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89F3C85-F1A7-4F4B-9B3A-5E49152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AA96526-8C4B-4751-B8AB-A8D5348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AB5EDC7-DCF4-4183-A2FF-91647965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A9BDD25-0705-46F0-A81E-A0425DC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C7732D8-88C1-4490-A65A-19D2C133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B4726F6-B868-4E0D-B541-47D604B4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B9D3385-BB1B-48C5-9349-372853C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134F32B-6A07-4CB1-B1B0-3A4675D2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AE02-B8C2-4CFF-A504-ACEB75C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9859271-78AD-4FCA-8B58-713860C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AD39F92-15CC-41D7-929D-229F7C17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BED0362-3DE4-4386-8038-411AE20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C11CEFA-4518-460C-B554-DB2FC837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9E7AC4B-0479-421C-ABF2-4FFB171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4DA167C-B0AA-47F2-A8EA-112A2CF8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943B706-4462-40B3-9313-C500D16B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2BB48BA-F419-4F6E-A183-DDD8AAA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54163A3-864E-43E6-A96D-259F4D7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DA2BC3E-1A87-45D0-8F5A-FBF8E930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794F-F126-47D7-AE41-D6311FA5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DBE01E3-00C0-4F80-ACEF-9785478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717CB81-0CB4-4CD0-8C0F-A7B5E80CEB0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5E61EBB-DDB1-4266-AC2D-02F87786905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FD7C53A-46A2-4F76-856F-FDABC08FD604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8B8F48E-750E-47A5-AD35-F7AC513CAD9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F4C28DC-B71F-4122-B464-B42629FC6769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645A190-A0F5-44EC-906D-6EBBC48C114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8C31465-296C-4075-9103-46670E2406DB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5C1193D-3460-4EFE-83F2-B7433C63B46B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2189767-16E5-4312-AF2C-B4E08839844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57147-A3A3-4BD6-8608-E98B0A3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480A8D-BFB9-4141-86E9-152C6258B22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0A9C326-7CFD-4F60-8F88-B7C13A87FC5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A8A249E-3E3C-4B11-A136-14532F0E596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3AB835-F0B2-4715-B593-664D1AF8929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7A8CD6-6D42-46A2-802F-8B3B743C2CC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020E9D-B554-4218-8711-30C4678745F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F840B7-502B-44EA-BE79-EB84D76E3DED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1FC201-628F-4985-9517-EC9087F927B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5E99FA-1838-4B1A-A5EE-359283F7344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8A8BFE-91FE-4580-90C6-81473368C9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A543-0F4F-49DD-8C11-89C7E34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1D149E-E296-408F-A4AB-8EB60106418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942647-5EBE-48BD-9F2F-CDA5237B579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C723F7-6754-4B3F-B732-D45E8B3CF1E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87C7A8-021B-41C5-98F6-36F11E641C9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AE79FC-D2D4-4BC1-910F-AA37037F3C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F63A-C3D9-4F04-A821-53B40E2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169B7-D043-4829-BFE6-0B6FB61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D647-7ECF-4A59-A41E-BD54C683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0AFA-B195-40AD-A2EA-90EDBB5E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1C3B-141B-40E2-BE8A-158235A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6693-1938-4015-9A08-7E1C387C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18CB2-BE25-44B8-883D-492A7488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4CBA-5543-4C44-B54A-18F718BE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C687-0D4D-42F2-8255-5F2AF0FA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ED5B-BFFB-4F78-8E13-E6759348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B8C24-01F9-4575-B7B6-182FBB4E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C3E8-0D48-445B-861C-1C0693C1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544E-5DA4-44C8-BEFB-9E1B738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99DB-EE12-4E51-A5D0-5491969F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AAC0-DF99-4E87-BD5B-15A25D0E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A8579-D555-4C73-8C84-587D69BE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7E339-8093-4B11-AD15-1FAD559D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87882-1775-46B9-AA79-31BD2B3D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9DFD-9A08-4B4E-9743-F0C37F2D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3643-61B4-4534-9D52-F1D9EE5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EE77-7FDB-4647-BED5-7ED83BD8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EDF49-E713-44FC-AEEF-68DB8C44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770B-6ABA-4DB2-9072-4BC69BB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C07A-1C31-4D50-893B-924A1B7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B9E3-8C89-4DCD-A7F3-C5A95649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BB4A1-179E-45D5-BF23-C4B33BA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4CB83-01C2-4BAB-85E7-A459A327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9911-572D-4B68-88F0-90A84B1E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F6DD-1354-46C7-B630-CBFB519A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5C9C-AF1D-49E8-BFE7-2E71E4D0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41064-A5D7-4989-9ABF-33A9FB9D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E65E2-3227-43A8-8497-9454D7CE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C204-0AE4-43EB-A2FC-623D99F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E9F0F-DCA7-494A-87AC-1047D254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C543-DDF8-46BA-8FEC-0DEC670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A9AC9-6FF1-4D1D-A702-F868C08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3977B-E580-421B-912E-A552D985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8CD34-EA98-4E77-BAF1-9A79378C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5D60-1B07-420C-A7D9-F85F632D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4EEB-6C9F-4360-8340-BE993B0F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D5353-E98B-44F4-8AC4-72B4AE56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E5BBD-8C6C-4315-8BA0-7025AF6C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E0316-ED7B-4707-9C1B-7627E3D3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8583-896B-48B1-BEB9-8E3CB9E77BF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3BA-6E13-49D9-9836-0C50F52DD69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955-CE81-4961-9895-80CCCA8332C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40F-8857-4420-A727-0977108084C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32CD-234E-4E6C-92AF-398A8E67E36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95A-E840-434B-8963-F9471495BB6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C6B9-8BBB-4DAB-9513-BC6DCB6018A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F4B-A8BC-4327-9B9D-9449C5B9DE2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3733-06DE-49CF-B773-846E131B9C7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735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83CC-4801-4050-A8E6-D23464B5905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CFEA-8F3C-4A1A-A2AD-CBA71257513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0F64-D63A-4DB8-94B6-295F4063456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BB6-4B0D-4FEC-8C8E-E1E2E0DFECB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885-821D-49F6-ADFD-87BAD536DB1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A92-5EDB-4079-96C8-834B08EF77D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9957-333A-498E-B3BF-8996F00DE85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F865-D4E1-4486-878C-FB24C669051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8DDC-0DE2-4008-B94F-562A9E8924E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2A97-0073-4F67-8BC9-56D76FFC894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4CB3-246A-45C2-AC80-AE6FB6E6B66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6C08-5486-49E4-B880-585FEE70981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39E7-5C62-4D7A-9025-BE895AD7284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7BF9-5266-400B-9E3D-D1F29A04FC3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69C9-505B-4D35-AC7A-52F8C49E1EE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96E9-56E2-4604-B3DB-9DB5185C899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309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Num" idx="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1F3A-9C67-4BDC-A28C-48A0FA35C9E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BEF7-54FE-445D-80EB-7552D3B9F49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23D-4567-4D13-B9D5-D02E2B0EDBE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B4C-D805-475A-9C83-2D4D47059CC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7196-963E-4989-977F-CCD186B3E31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9457-5691-4CB3-8A64-6F742E24DA4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ABA4-DE54-452D-AA6D-111C7074438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1703-C955-473A-AC67-94015034A767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01E-126E-4D67-AD73-E2B0175D54C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9884-FD66-4DB1-9542-CB7D12762A5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B270-18A5-4980-8F82-96222FBD1EB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C40C-BB1D-4BC4-804E-ECBC8AB5148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A962-770F-4F5D-BF16-9283D8E6E92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2A5-EC54-4D5F-93C5-DA898E33A63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CD89-786F-4DDD-925E-C94F8166030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883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2FD1-DE44-4D4D-B728-E35EBC9FBCE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7BC3-1167-4155-8A6E-F44075D8834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7722-9343-46D2-A0AA-DF1D6E59D5E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0C35-BC4E-49D6-9B73-993939459F6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C9FB-A4E8-47DA-B144-11A6C381E0C6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62F-5192-4B40-8B64-7A630663EE0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hyperlink" Target="http://www.ege.edu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4da"/>
                </a:solidFill>
                <a:latin typeface="Arial"/>
              </a:rPr>
              <a:t>Федеральный закон от 29.12.2012 № 273-ФЗ «Об образовании в Российской Федерации</a:t>
            </a:r>
            <a:r>
              <a:rPr b="0" lang="ru-RU" sz="3200" spc="-1" strike="noStrike">
                <a:solidFill>
                  <a:srgbClr val="3204da"/>
                </a:solidFill>
                <a:latin typeface="Cassandra"/>
              </a:rPr>
              <a:t>»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87280" y="1665000"/>
            <a:ext cx="8532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Государственная итоговая аттестация является обязательной и проводится в форме и порядке, определяемых Федеральным органом исполнительной власт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Правила и процедура проведения ЕГЭ,ОГЭ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23640" y="1484280"/>
            <a:ext cx="8530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ГЭ и ОГЭ проводится в специальных пунктах проведения экзамена (ППЭ)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51" name="Прямоугольник 3"/>
          <p:cNvSpPr/>
          <p:nvPr/>
        </p:nvSpPr>
        <p:spPr>
          <a:xfrm>
            <a:off x="324000" y="4365720"/>
            <a:ext cx="8640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и ОГЭ начинается в 10:00 по местному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начала и окончания экзамена фиксируетс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2" name="Прямоугольник 21"/>
          <p:cNvGrpSpPr/>
          <p:nvPr/>
        </p:nvGrpSpPr>
        <p:grpSpPr>
          <a:xfrm>
            <a:off x="-6480" y="6431040"/>
            <a:ext cx="9163080" cy="439560"/>
            <a:chOff x="-6480" y="6431040"/>
            <a:chExt cx="9163080" cy="439560"/>
          </a:xfrm>
        </p:grpSpPr>
        <p:pic>
          <p:nvPicPr>
            <p:cNvPr id="1953" name="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-6480" y="6431040"/>
              <a:ext cx="9163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4" name=""/>
            <p:cNvSpPr/>
            <p:nvPr/>
          </p:nvSpPr>
          <p:spPr>
            <a:xfrm>
              <a:off x="0" y="6435720"/>
              <a:ext cx="9144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Прямоугольник 22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56" name="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ришли на экзамен. Что необходимо иметь при себе и можно взять с собой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9" name="Прямоугольник 6"/>
          <p:cNvSpPr/>
          <p:nvPr/>
        </p:nvSpPr>
        <p:spPr>
          <a:xfrm>
            <a:off x="324000" y="836640"/>
            <a:ext cx="3240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(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Прямоугольник 10"/>
          <p:cNvSpPr/>
          <p:nvPr/>
        </p:nvSpPr>
        <p:spPr>
          <a:xfrm>
            <a:off x="5742360" y="971640"/>
            <a:ext cx="2620080" cy="642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обхо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арство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Picture 10" descr="D:\!МолодыеТихоновы-Е.В\!Работа-сделать\РЦОИ\1088102-3d-Teeny-White-Person-Carrying-A-Ruler.jpg"/>
          <p:cNvPicPr/>
          <p:nvPr/>
        </p:nvPicPr>
        <p:blipFill>
          <a:blip r:embed="rId3"/>
          <a:srcRect l="0" t="0" r="0" b="12916"/>
          <a:stretch/>
        </p:blipFill>
        <p:spPr>
          <a:xfrm>
            <a:off x="1692360" y="3578400"/>
            <a:ext cx="1439640" cy="111096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1" descr="D:\!МолодыеТихоновы-Е.В\!Работа-сделать\РЦОИ\1087621-3d-Teeny-White-Person-Writing-With-A-Pen.jpg"/>
          <p:cNvPicPr/>
          <p:nvPr/>
        </p:nvPicPr>
        <p:blipFill>
          <a:blip r:embed="rId4"/>
          <a:srcRect l="0" t="0" r="14258" b="0"/>
          <a:stretch/>
        </p:blipFill>
        <p:spPr>
          <a:xfrm>
            <a:off x="4103640" y="674640"/>
            <a:ext cx="1013040" cy="13334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2" descr="D:\!МолодыеТихоновы-Е.В\!Работа-сделать\РЦОИ\1088070-3d-Teeny-White-Person-Holding-A-Calculator-In-Front-Of-His-Face.jpg"/>
          <p:cNvPicPr/>
          <p:nvPr/>
        </p:nvPicPr>
        <p:blipFill>
          <a:blip r:embed="rId5"/>
          <a:srcRect l="0" t="0" r="16688" b="0"/>
          <a:stretch/>
        </p:blipFill>
        <p:spPr>
          <a:xfrm>
            <a:off x="6064200" y="3284640"/>
            <a:ext cx="1063800" cy="1439640"/>
          </a:xfrm>
          <a:prstGeom prst="rect">
            <a:avLst/>
          </a:prstGeom>
          <a:ln w="0">
            <a:noFill/>
          </a:ln>
        </p:spPr>
      </p:pic>
      <p:sp>
        <p:nvSpPr>
          <p:cNvPr id="1964" name="Прямоугольник 27"/>
          <p:cNvSpPr/>
          <p:nvPr/>
        </p:nvSpPr>
        <p:spPr>
          <a:xfrm>
            <a:off x="3348000" y="200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лев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Прямоугольник 29"/>
          <p:cNvSpPr/>
          <p:nvPr/>
        </p:nvSpPr>
        <p:spPr>
          <a:xfrm>
            <a:off x="1476360" y="27478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которые можно использовать на ЕГЭ по отд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Прямоугольник 15"/>
          <p:cNvSpPr/>
          <p:nvPr/>
        </p:nvSpPr>
        <p:spPr>
          <a:xfrm>
            <a:off x="1258920" y="5975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, транспортир,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Прямоугольник 16"/>
          <p:cNvSpPr/>
          <p:nvPr/>
        </p:nvSpPr>
        <p:spPr>
          <a:xfrm>
            <a:off x="1258920" y="4788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Прямоугольник 17"/>
          <p:cNvSpPr/>
          <p:nvPr/>
        </p:nvSpPr>
        <p:spPr>
          <a:xfrm>
            <a:off x="1258920" y="5183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 и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18"/>
          <p:cNvSpPr/>
          <p:nvPr/>
        </p:nvSpPr>
        <p:spPr>
          <a:xfrm>
            <a:off x="1258920" y="558000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4" descr="X:\11_Тихонов\2012\презент2012\221974-3d-Teeny-Person-With-A-Check-Mark-2.jpg"/>
          <p:cNvPicPr/>
          <p:nvPr/>
        </p:nvPicPr>
        <p:blipFill>
          <a:blip r:embed="rId6"/>
          <a:srcRect l="0" t="0" r="0" b="22349"/>
          <a:stretch/>
        </p:blipFill>
        <p:spPr>
          <a:xfrm>
            <a:off x="539640" y="487368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" descr="X:\11_Тихонов\2012\презент2012\221974-3d-Teeny-Person-With-A-Check-Mark-2.jpg"/>
          <p:cNvPicPr/>
          <p:nvPr/>
        </p:nvPicPr>
        <p:blipFill>
          <a:blip r:embed="rId7"/>
          <a:srcRect l="0" t="0" r="0" b="22349"/>
          <a:stretch/>
        </p:blipFill>
        <p:spPr>
          <a:xfrm>
            <a:off x="539640" y="527364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49"/>
          <a:stretch/>
        </p:blipFill>
        <p:spPr>
          <a:xfrm>
            <a:off x="539640" y="566100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4" descr="X:\11_Тихонов\2012\презент2012\221974-3d-Teeny-Person-With-A-Check-Mark-2.jpg"/>
          <p:cNvPicPr/>
          <p:nvPr/>
        </p:nvPicPr>
        <p:blipFill>
          <a:blip r:embed="rId9"/>
          <a:srcRect l="0" t="0" r="0" b="22349"/>
          <a:stretch/>
        </p:blipFill>
        <p:spPr>
          <a:xfrm>
            <a:off x="539640" y="6058080"/>
            <a:ext cx="360360" cy="24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0.23657 L 1.66667E-006 0.02014 E">
                                      <p:cBhvr>
                                        <p:cTn id="11" dur="1000" fill="hold"/>
                                        <p:tgtEl>
                                          <p:spTgt spid="1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25671 L -0.01927 0.01666 E">
                                      <p:cBhvr>
                                        <p:cTn id="19" dur="1000" fill="hold"/>
                                        <p:tgtEl>
                                          <p:spTgt spid="1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9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атематика – линейк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, химия –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, география – линейка,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197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1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83" name="TextBox 6"/>
          <p:cNvSpPr/>
          <p:nvPr/>
        </p:nvSpPr>
        <p:spPr>
          <a:xfrm>
            <a:off x="395280" y="692280"/>
            <a:ext cx="806436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Box 10"/>
          <p:cNvSpPr/>
          <p:nvPr/>
        </p:nvSpPr>
        <p:spPr>
          <a:xfrm>
            <a:off x="298440" y="3716280"/>
            <a:ext cx="84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ься иными предметами или средствами, не допущенными Рособрнадзором к использованию в ППЭ во время экзамена, не только в аудитории, но и во всем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6"/>
          <p:cNvSpPr/>
          <p:nvPr/>
        </p:nvSpPr>
        <p:spPr>
          <a:xfrm>
            <a:off x="298440" y="10764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ариваться, меняться местами, любыми материалами и предм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Группа 1"/>
          <p:cNvGrpSpPr/>
          <p:nvPr/>
        </p:nvGrpSpPr>
        <p:grpSpPr>
          <a:xfrm>
            <a:off x="3780000" y="1989000"/>
            <a:ext cx="1052280" cy="1379520"/>
            <a:chOff x="3780000" y="1989000"/>
            <a:chExt cx="1052280" cy="1379520"/>
          </a:xfrm>
        </p:grpSpPr>
        <p:pic>
          <p:nvPicPr>
            <p:cNvPr id="1987" name="Picture 12" descr="D:\!МолодыеТихоновы-Е.В\!Работа-сделать\РЦОИ\1088118-Clipart-3d-Teeny-White-Person-Talking-On-Two-Phones-Royalty-Free-CGI-Illustration.jpg"/>
            <p:cNvPicPr/>
            <p:nvPr/>
          </p:nvPicPr>
          <p:blipFill>
            <a:blip r:embed="rId3"/>
            <a:srcRect l="0" t="0" r="5591" b="1573"/>
            <a:stretch/>
          </p:blipFill>
          <p:spPr>
            <a:xfrm>
              <a:off x="3780000" y="1989000"/>
              <a:ext cx="105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0" descr="D:\!МолодыеТихоновы-Е.В\!Работа-сделать\РЦОИ\17693_732062542_medium.jpg"/>
            <p:cNvPicPr/>
            <p:nvPr/>
          </p:nvPicPr>
          <p:blipFill>
            <a:blip r:embed="rId4"/>
            <a:stretch/>
          </p:blipFill>
          <p:spPr>
            <a:xfrm>
              <a:off x="3980520" y="2035800"/>
              <a:ext cx="6156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9" name="Picture 11" descr="D:\!МолодыеТихоновы-Е.В\!Работа-сделать\РЦОИ\pinac2.jpg"/>
          <p:cNvPicPr/>
          <p:nvPr/>
        </p:nvPicPr>
        <p:blipFill>
          <a:blip r:embed="rId5"/>
          <a:stretch/>
        </p:blipFill>
        <p:spPr>
          <a:xfrm>
            <a:off x="5364000" y="1878120"/>
            <a:ext cx="1128960" cy="11206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4" descr="D:\!МолодыеТихоновы-Е.В\!Работа-сделать\РЦОИ\223007-3d-Teeny-Person-Thinking-Over-A-Prohibited-Sign.jpg"/>
          <p:cNvPicPr/>
          <p:nvPr/>
        </p:nvPicPr>
        <p:blipFill>
          <a:blip r:embed="rId6"/>
          <a:srcRect l="0" t="0" r="0" b="10005"/>
          <a:stretch/>
        </p:blipFill>
        <p:spPr>
          <a:xfrm>
            <a:off x="900000" y="2284560"/>
            <a:ext cx="1368360" cy="1396800"/>
          </a:xfrm>
          <a:prstGeom prst="rect">
            <a:avLst/>
          </a:prstGeom>
          <a:ln w="0">
            <a:noFill/>
          </a:ln>
        </p:spPr>
      </p:pic>
      <p:sp>
        <p:nvSpPr>
          <p:cNvPr id="1991" name="TextBox 6"/>
          <p:cNvSpPr/>
          <p:nvPr/>
        </p:nvSpPr>
        <p:spPr>
          <a:xfrm>
            <a:off x="3125880" y="106992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обильную и иную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6"/>
          <p:cNvSpPr/>
          <p:nvPr/>
        </p:nvSpPr>
        <p:spPr>
          <a:xfrm>
            <a:off x="5861160" y="105264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и фото и видео съемку, звуко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Группа 33"/>
          <p:cNvGrpSpPr/>
          <p:nvPr/>
        </p:nvGrpSpPr>
        <p:grpSpPr>
          <a:xfrm>
            <a:off x="7723080" y="1916280"/>
            <a:ext cx="1062000" cy="1120680"/>
            <a:chOff x="7723080" y="1916280"/>
            <a:chExt cx="1062000" cy="1120680"/>
          </a:xfrm>
        </p:grpSpPr>
        <p:pic>
          <p:nvPicPr>
            <p:cNvPr id="1994" name="Picture 13" descr="D:\!МолодыеТихоновы-Е.В\!Работа-сделать\РЦОИ\1088009-3d-Teeny-White-Person-Camera-Man.jpg"/>
            <p:cNvPicPr/>
            <p:nvPr/>
          </p:nvPicPr>
          <p:blipFill>
            <a:blip r:embed="rId7"/>
            <a:srcRect l="0" t="0" r="4743" b="13523"/>
            <a:stretch/>
          </p:blipFill>
          <p:spPr>
            <a:xfrm>
              <a:off x="7732800" y="1916280"/>
              <a:ext cx="1052280" cy="112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5" name="Группа 6"/>
            <p:cNvGrpSpPr/>
            <p:nvPr/>
          </p:nvGrpSpPr>
          <p:grpSpPr>
            <a:xfrm>
              <a:off x="7723080" y="1937520"/>
              <a:ext cx="1028520" cy="1010160"/>
              <a:chOff x="7723080" y="1937520"/>
              <a:chExt cx="1028520" cy="1010160"/>
            </a:xfrm>
          </p:grpSpPr>
          <p:sp>
            <p:nvSpPr>
              <p:cNvPr id="1996" name="Овал 2"/>
              <p:cNvSpPr/>
              <p:nvPr/>
            </p:nvSpPr>
            <p:spPr>
              <a:xfrm>
                <a:off x="7723080" y="1937520"/>
                <a:ext cx="1028520" cy="101016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Прямая соединительная линия 4"/>
              <p:cNvSpPr/>
              <p:nvPr/>
            </p:nvSpPr>
            <p:spPr>
              <a:xfrm>
                <a:off x="7873560" y="2084760"/>
                <a:ext cx="727200" cy="7153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8" name="Прямая соединительная линия 12"/>
          <p:cNvSpPr/>
          <p:nvPr/>
        </p:nvSpPr>
        <p:spPr>
          <a:xfrm>
            <a:off x="515880" y="458136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16" descr="D:\!МолодыеТихоновы-Е.В\!Работа-сделать\РЦОИ\1088106-3d-Teeny-White-Person-Going-To-The-Restroom.jpg"/>
          <p:cNvPicPr/>
          <p:nvPr/>
        </p:nvPicPr>
        <p:blipFill>
          <a:blip r:embed="rId8"/>
          <a:srcRect l="0" t="0" r="0" b="10288"/>
          <a:stretch/>
        </p:blipFill>
        <p:spPr>
          <a:xfrm>
            <a:off x="2519280" y="4761000"/>
            <a:ext cx="828720" cy="842760"/>
          </a:xfrm>
          <a:prstGeom prst="rect">
            <a:avLst/>
          </a:prstGeom>
          <a:ln w="0">
            <a:noFill/>
          </a:ln>
        </p:spPr>
      </p:pic>
      <p:sp>
        <p:nvSpPr>
          <p:cNvPr id="2000" name="Прямоугольник 28"/>
          <p:cNvSpPr/>
          <p:nvPr/>
        </p:nvSpPr>
        <p:spPr>
          <a:xfrm>
            <a:off x="395280" y="692280"/>
            <a:ext cx="8064360" cy="36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Группа 32"/>
          <p:cNvGrpSpPr/>
          <p:nvPr/>
        </p:nvGrpSpPr>
        <p:grpSpPr>
          <a:xfrm>
            <a:off x="6561000" y="2643120"/>
            <a:ext cx="1028880" cy="1079640"/>
            <a:chOff x="6561000" y="2643120"/>
            <a:chExt cx="1028880" cy="1079640"/>
          </a:xfrm>
        </p:grpSpPr>
        <p:pic>
          <p:nvPicPr>
            <p:cNvPr id="2002" name="Picture 2" descr="X:\11_Тихонов\2012\презент2012\221960-3d-Teeny-Person-Using-A-Microphone-1.jpg"/>
            <p:cNvPicPr/>
            <p:nvPr/>
          </p:nvPicPr>
          <p:blipFill>
            <a:blip r:embed="rId9"/>
            <a:srcRect l="0" t="0" r="12020" b="0"/>
            <a:stretch/>
          </p:blipFill>
          <p:spPr>
            <a:xfrm>
              <a:off x="6660000" y="2692080"/>
              <a:ext cx="804960" cy="10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3" name="Группа 6"/>
            <p:cNvGrpSpPr/>
            <p:nvPr/>
          </p:nvGrpSpPr>
          <p:grpSpPr>
            <a:xfrm>
              <a:off x="6561000" y="2643120"/>
              <a:ext cx="1028880" cy="1009800"/>
              <a:chOff x="6561000" y="2643120"/>
              <a:chExt cx="1028880" cy="1009800"/>
            </a:xfrm>
          </p:grpSpPr>
          <p:sp>
            <p:nvSpPr>
              <p:cNvPr id="2004" name="Овал 30"/>
              <p:cNvSpPr/>
              <p:nvPr/>
            </p:nvSpPr>
            <p:spPr>
              <a:xfrm>
                <a:off x="6561000" y="2643120"/>
                <a:ext cx="1028880" cy="100980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Прямая соединительная линия 31"/>
              <p:cNvSpPr/>
              <p:nvPr/>
            </p:nvSpPr>
            <p:spPr>
              <a:xfrm>
                <a:off x="6711840" y="2790720"/>
                <a:ext cx="727200" cy="714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6" name="Picture 3" descr="X:\11_Тихонов\2012\презент2012\1087780-3d-Teeny-White-Paramedics-Loading-A-Person-Into-An-Ambulance.jpg"/>
          <p:cNvPicPr/>
          <p:nvPr/>
        </p:nvPicPr>
        <p:blipFill>
          <a:blip r:embed="rId10"/>
          <a:srcRect l="0" t="4795" r="1682" b="11360"/>
          <a:stretch/>
        </p:blipFill>
        <p:spPr>
          <a:xfrm>
            <a:off x="539640" y="4640400"/>
            <a:ext cx="1440000" cy="108720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7"/>
          <p:cNvSpPr/>
          <p:nvPr/>
        </p:nvSpPr>
        <p:spPr>
          <a:xfrm>
            <a:off x="4284720" y="46893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йти можно по уважительным причинам и только в сопровождении дежу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7"/>
          <p:cNvSpPr/>
          <p:nvPr/>
        </p:nvSpPr>
        <p:spPr>
          <a:xfrm>
            <a:off x="179280" y="5904000"/>
            <a:ext cx="88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ы нарушите установленные правила, Вас могут удалить с экза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Picture 2" descr="X:\11_Тихонов\2012\презент2012\221982-3d-Teeny-Person-With-A-Red-Exclamation-Point.jpg"/>
          <p:cNvPicPr/>
          <p:nvPr/>
        </p:nvPicPr>
        <p:blipFill>
          <a:blip r:embed="rId1"/>
          <a:srcRect l="0" t="0" r="14855" b="0"/>
          <a:stretch/>
        </p:blipFill>
        <p:spPr>
          <a:xfrm>
            <a:off x="5102280" y="6058080"/>
            <a:ext cx="298440" cy="3934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22" descr="G:\РЦОИ\2012\презент2012\1088557-3d-Teeny-White-Person-Walking-Towards-An-Open-Door.jpg"/>
          <p:cNvPicPr/>
          <p:nvPr/>
        </p:nvPicPr>
        <p:blipFill>
          <a:blip r:embed="rId2"/>
          <a:srcRect l="0" t="0" r="0" b="14791"/>
          <a:stretch/>
        </p:blipFill>
        <p:spPr>
          <a:xfrm>
            <a:off x="123840" y="620640"/>
            <a:ext cx="1336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01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1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1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18" name="TextBox 10"/>
          <p:cNvSpPr/>
          <p:nvPr/>
        </p:nvSpPr>
        <p:spPr>
          <a:xfrm>
            <a:off x="298440" y="30337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хватке места для записи ответов на задания части С можно попросить у организатора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бланк ответов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Прямая соединительная линия 12"/>
          <p:cNvSpPr/>
          <p:nvPr/>
        </p:nvSpPr>
        <p:spPr>
          <a:xfrm>
            <a:off x="515880" y="270828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7"/>
          <p:cNvSpPr/>
          <p:nvPr/>
        </p:nvSpPr>
        <p:spPr>
          <a:xfrm>
            <a:off x="1403280" y="65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ходе из аудитории во время экзамена  бланки остаются на столе обучающегося, организатор визуально смотрит, со стола ничего не бе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2" descr="X:\11_Тихонов\2012\презент2012\221982-3d-Teeny-Person-With-A-Red-Exclamation-Point.jpg"/>
          <p:cNvPicPr/>
          <p:nvPr/>
        </p:nvPicPr>
        <p:blipFill>
          <a:blip r:embed="rId5"/>
          <a:srcRect l="0" t="0" r="14855" b="0"/>
          <a:stretch/>
        </p:blipFill>
        <p:spPr>
          <a:xfrm>
            <a:off x="7740720" y="762120"/>
            <a:ext cx="1165320" cy="1542960"/>
          </a:xfrm>
          <a:prstGeom prst="rect">
            <a:avLst/>
          </a:prstGeom>
          <a:ln w="0">
            <a:noFill/>
          </a:ln>
        </p:spPr>
      </p:pic>
      <p:sp>
        <p:nvSpPr>
          <p:cNvPr id="2022" name="Прямоугольник 36"/>
          <p:cNvSpPr/>
          <p:nvPr/>
        </p:nvSpPr>
        <p:spPr>
          <a:xfrm>
            <a:off x="1079640" y="44737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экзамена все участники должны сд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Picture 2" descr="X:\11_Тихонов\2012\презент2012\1088555-3d-Teeny-White-Person-Reading-A-Long-List.jpg"/>
          <p:cNvPicPr/>
          <p:nvPr/>
        </p:nvPicPr>
        <p:blipFill>
          <a:blip r:embed="rId6"/>
          <a:srcRect l="0" t="0" r="0" b="13747"/>
          <a:stretch/>
        </p:blipFill>
        <p:spPr>
          <a:xfrm>
            <a:off x="6389640" y="3033720"/>
            <a:ext cx="1517760" cy="1160280"/>
          </a:xfrm>
          <a:prstGeom prst="rect">
            <a:avLst/>
          </a:prstGeom>
          <a:ln w="0">
            <a:noFill/>
          </a:ln>
        </p:spPr>
      </p:pic>
      <p:sp>
        <p:nvSpPr>
          <p:cNvPr id="2024" name="Прямоугольник 37"/>
          <p:cNvSpPr/>
          <p:nvPr/>
        </p:nvSpPr>
        <p:spPr>
          <a:xfrm>
            <a:off x="670320" y="4932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Прямоугольник 39"/>
          <p:cNvSpPr/>
          <p:nvPr/>
        </p:nvSpPr>
        <p:spPr>
          <a:xfrm>
            <a:off x="731880" y="53942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 и К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3" descr="X:\11_Тихонов\2012\презент2012\221715-3d-Teeny-Person-Carrying-A-Blue-House.jpg"/>
          <p:cNvPicPr/>
          <p:nvPr/>
        </p:nvPicPr>
        <p:blipFill>
          <a:blip r:embed="rId7"/>
          <a:srcRect l="0" t="0" r="11381" b="7842"/>
          <a:stretch/>
        </p:blipFill>
        <p:spPr>
          <a:xfrm>
            <a:off x="3182760" y="5013360"/>
            <a:ext cx="776520" cy="91116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15"/>
          <a:stretch/>
        </p:blipFill>
        <p:spPr>
          <a:xfrm>
            <a:off x="360360" y="4384800"/>
            <a:ext cx="719280" cy="495000"/>
          </a:xfrm>
          <a:prstGeom prst="rect">
            <a:avLst/>
          </a:prstGeom>
          <a:ln w="0">
            <a:noFill/>
          </a:ln>
        </p:spPr>
      </p:pic>
      <p:sp>
        <p:nvSpPr>
          <p:cNvPr id="2028" name="Прямоугольник 42"/>
          <p:cNvSpPr/>
          <p:nvPr/>
        </p:nvSpPr>
        <p:spPr>
          <a:xfrm>
            <a:off x="34920" y="5807160"/>
            <a:ext cx="90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даче материалов необходимо расписаться в ведо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7"/>
          <p:cNvSpPr/>
          <p:nvPr/>
        </p:nvSpPr>
        <p:spPr>
          <a:xfrm>
            <a:off x="792000" y="1604880"/>
            <a:ext cx="68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кзамен не завершен по уважительной причине, то решение о его пересдаче выносит государственная экзаменационная комиссия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Прямая соединительная линия 21"/>
          <p:cNvSpPr/>
          <p:nvPr/>
        </p:nvSpPr>
        <p:spPr>
          <a:xfrm>
            <a:off x="515880" y="441000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32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38" name="TextBox 10"/>
          <p:cNvSpPr/>
          <p:nvPr/>
        </p:nvSpPr>
        <p:spPr>
          <a:xfrm>
            <a:off x="826920" y="3429000"/>
            <a:ext cx="8315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сбора экзаменационных материалов организаторы в аудиториях пересчитывают бланки и запечатывают их в специальные доставочные пакеты (конв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Прямоугольник 36"/>
          <p:cNvSpPr/>
          <p:nvPr/>
        </p:nvSpPr>
        <p:spPr>
          <a:xfrm>
            <a:off x="298440" y="800280"/>
            <a:ext cx="73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ать экзаменационные материалы можно раньше, если все выполнено, но не позднее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инут до конца самого эк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7907400" y="804960"/>
            <a:ext cx="841320" cy="1114200"/>
          </a:xfrm>
          <a:prstGeom prst="rect">
            <a:avLst/>
          </a:prstGeom>
          <a:ln w="0">
            <a:noFill/>
          </a:ln>
        </p:spPr>
      </p:pic>
      <p:sp>
        <p:nvSpPr>
          <p:cNvPr id="2041" name="Прямоугольник 20"/>
          <p:cNvSpPr/>
          <p:nvPr/>
        </p:nvSpPr>
        <p:spPr>
          <a:xfrm>
            <a:off x="108000" y="2457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рганизаторы самостоятельно собирают экзаменацион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X:\11_Тихонов\2012\презент2012\221720-3d-Teeny-Person-Carrying-A-Box.jpg"/>
          <p:cNvPicPr/>
          <p:nvPr/>
        </p:nvPicPr>
        <p:blipFill>
          <a:blip r:embed="rId4"/>
          <a:srcRect l="0" t="0" r="0" b="9738"/>
          <a:stretch/>
        </p:blipFill>
        <p:spPr>
          <a:xfrm>
            <a:off x="3598920" y="5054760"/>
            <a:ext cx="1298520" cy="132696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3" descr="X:\11_Тихонов\2012\презент2012\1087249-3d-Teeny-White-Teenage-Person-Stepping-On-Notebooks.jpg"/>
          <p:cNvPicPr/>
          <p:nvPr/>
        </p:nvPicPr>
        <p:blipFill>
          <a:blip r:embed="rId5"/>
          <a:srcRect l="0" t="0" r="0" b="11606"/>
          <a:stretch/>
        </p:blipFill>
        <p:spPr>
          <a:xfrm>
            <a:off x="3598920" y="170028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1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дном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из обязательных предметов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русский язык или математика), то он может пересдать этот экзамен в этом же году в резервные дн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954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В 9 классе могут повторно сдать экзамены обучающиеся, получившие неудовлетворительные результаты по двум учебным предметам в резервные дн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кже допускаются к пересдаче в 9 и 11 классах обучающиеся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явившиеся на экзамены по уважительным причинам (болезнь или иные обстоятельства, подтвержденные документально)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завершившие выполнение экзаменационной работы  по уважительным причинам (болезнь или иные обстоятельства, подтвержденные документально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ssandra"/>
              </a:rPr>
              <a:t>Апелляц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пелляция – это письменное заявление участника ГИА либо о нарушении установленного порядка проведения ЕГЭ, ОГЭ; либо о несогласии с результатами ЕГЭ, ОГЭ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5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Экзамен проходил с нарушениями? Результат по баллам не удовлетворил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57" name="TextBox 7"/>
          <p:cNvSpPr/>
          <p:nvPr/>
        </p:nvSpPr>
        <p:spPr>
          <a:xfrm>
            <a:off x="3581280" y="652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0"/>
          <p:cNvSpPr/>
          <p:nvPr/>
        </p:nvSpPr>
        <p:spPr>
          <a:xfrm>
            <a:off x="1368360" y="15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Box 11"/>
          <p:cNvSpPr/>
          <p:nvPr/>
        </p:nvSpPr>
        <p:spPr>
          <a:xfrm>
            <a:off x="575928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бал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Прямоугольник 1"/>
          <p:cNvSpPr/>
          <p:nvPr/>
        </p:nvSpPr>
        <p:spPr>
          <a:xfrm>
            <a:off x="306360" y="22417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и установленного порядка провед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Прямоугольник 13"/>
          <p:cNvSpPr/>
          <p:nvPr/>
        </p:nvSpPr>
        <p:spPr>
          <a:xfrm>
            <a:off x="304920" y="4157640"/>
            <a:ext cx="36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бланков ЕГ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ыхода из ППЭ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лномоченному представителю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Прямоугольник 14"/>
          <p:cNvSpPr/>
          <p:nvPr/>
        </p:nvSpPr>
        <p:spPr>
          <a:xfrm>
            <a:off x="4429080" y="4157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двух рабочих дней после официального объявления результатов экзамена, руководителю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4200480" y="1233360"/>
            <a:ext cx="839880" cy="1113120"/>
          </a:xfrm>
          <a:prstGeom prst="rect">
            <a:avLst/>
          </a:prstGeom>
          <a:ln w="0">
            <a:noFill/>
          </a:ln>
        </p:spPr>
      </p:pic>
      <p:sp>
        <p:nvSpPr>
          <p:cNvPr id="2064" name="Дуга 20"/>
          <p:cNvSpPr/>
          <p:nvPr/>
        </p:nvSpPr>
        <p:spPr>
          <a:xfrm>
            <a:off x="4500720" y="879480"/>
            <a:ext cx="2232000" cy="1325520"/>
          </a:xfrm>
          <a:custGeom>
            <a:avLst/>
            <a:gdLst/>
            <a:ahLst/>
            <a:rect l="l" t="t" r="r" b="b"/>
            <a:pathLst>
              <a:path stroke="0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  <a:lnTo>
                  <a:pt x="1116013" y="662782"/>
                </a:lnTo>
                <a:cubicBezTo>
                  <a:pt x="1116013" y="441855"/>
                  <a:pt x="1116012" y="220927"/>
                  <a:pt x="1116012" y="0"/>
                </a:cubicBezTo>
                <a:close/>
              </a:path>
              <a:path fill="none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</a:path>
            </a:pathLst>
          </a:custGeom>
          <a:noFill/>
          <a:ln w="44280">
            <a:solidFill>
              <a:srgbClr val="c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Дуга 21"/>
          <p:cNvSpPr/>
          <p:nvPr/>
        </p:nvSpPr>
        <p:spPr>
          <a:xfrm flipH="1">
            <a:off x="2267640" y="879480"/>
            <a:ext cx="2303640" cy="1440000"/>
          </a:xfrm>
          <a:custGeom>
            <a:avLst/>
            <a:gdLst/>
            <a:ahLst/>
            <a:rect l="l" t="t" r="r" b="b"/>
            <a:pathLst>
              <a:path stroke="0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  <a:lnTo>
                  <a:pt x="1151731" y="719932"/>
                </a:lnTo>
                <a:lnTo>
                  <a:pt x="1151731" y="0"/>
                </a:lnTo>
                <a:close/>
              </a:path>
              <a:path fill="none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Прямоугольник 1"/>
          <p:cNvSpPr/>
          <p:nvPr/>
        </p:nvSpPr>
        <p:spPr>
          <a:xfrm>
            <a:off x="5329080" y="2205000"/>
            <a:ext cx="33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ами) по ЕГЭ и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7"/>
          <p:cNvSpPr/>
          <p:nvPr/>
        </p:nvSpPr>
        <p:spPr>
          <a:xfrm>
            <a:off x="304920" y="5718240"/>
            <a:ext cx="83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заседании Конфликтной комиссии принимаются решения об отклонении или удовлетворении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7"/>
          <p:cNvSpPr/>
          <p:nvPr/>
        </p:nvSpPr>
        <p:spPr>
          <a:xfrm>
            <a:off x="3581280" y="3429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AutoShape 17"/>
          <p:cNvSpPr/>
          <p:nvPr/>
        </p:nvSpPr>
        <p:spPr>
          <a:xfrm rot="16200000">
            <a:off x="2126160" y="3774240"/>
            <a:ext cx="300240" cy="161640"/>
          </a:xfrm>
          <a:prstGeom prst="leftArrow">
            <a:avLst>
              <a:gd name="adj1" fmla="val 50000"/>
              <a:gd name="adj2" fmla="val 4365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7"/>
          <p:cNvSpPr/>
          <p:nvPr/>
        </p:nvSpPr>
        <p:spPr>
          <a:xfrm rot="16200000">
            <a:off x="6582600" y="3774240"/>
            <a:ext cx="300240" cy="162000"/>
          </a:xfrm>
          <a:prstGeom prst="leftArrow">
            <a:avLst>
              <a:gd name="adj1" fmla="val 50000"/>
              <a:gd name="adj2" fmla="val 435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autoRev="1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6" dur="1000" fill="hold"/>
                                        <p:tgtEl>
                                          <p:spTgt spid="2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8" dur="1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формой ГИА-9 является ОГ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обучающихся с ОВЗ, детей-инвалидов и инвалидов итоговая аттестация проводится в форме ГВ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проведения ЕГЭ и ОГЭ составляетс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диное расписание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Результаты  рассмотрения апелляции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X:\11_Тихонов\2012\презент2012\1087186-3d-Teeny-White-Person-Typing-On-A-Keyboard-By-WWW.jpg"/>
          <p:cNvPicPr/>
          <p:nvPr/>
        </p:nvPicPr>
        <p:blipFill>
          <a:blip r:embed="rId1"/>
          <a:srcRect l="0" t="0" r="0" b="14614"/>
          <a:stretch/>
        </p:blipFill>
        <p:spPr>
          <a:xfrm>
            <a:off x="6788160" y="476280"/>
            <a:ext cx="19051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074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7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осмотреть  и ознакомиться с информацией по ЕГЭ и ОГЭ можно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1" name="Rectangle 1"/>
          <p:cNvSpPr/>
          <p:nvPr/>
        </p:nvSpPr>
        <p:spPr>
          <a:xfrm>
            <a:off x="287280" y="1360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фициальном информационном портале ЕГЭ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ww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stest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Прямоугольник 10"/>
          <p:cNvSpPr/>
          <p:nvPr/>
        </p:nvSpPr>
        <p:spPr>
          <a:xfrm>
            <a:off x="287280" y="3944880"/>
            <a:ext cx="856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Государственного бюджетного учреждения Ростовской области Ростовского  центра обработки информации в сфере образования (далее – РО ЦОИСО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coiso@rost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Кашарского отдела образования администрации Кашарского район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kasharsk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Заголовок 3" descr=""/>
          <p:cNvPicPr/>
          <p:nvPr/>
        </p:nvPicPr>
        <p:blipFill>
          <a:blip r:embed="rId1"/>
          <a:stretch/>
        </p:blipFill>
        <p:spPr>
          <a:xfrm>
            <a:off x="1243080" y="128592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4" name="Диаграмма 4"/>
          <p:cNvGraphicFramePr/>
          <p:nvPr/>
        </p:nvGraphicFramePr>
        <p:xfrm>
          <a:off x="985680" y="1760400"/>
          <a:ext cx="419760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5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760400"/>
                    <a:ext cx="41976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6" name="Picture 4" descr="C:\Users\kadach_tg\Desktop\142237_mobile_512x512.png"/>
          <p:cNvPicPr/>
          <p:nvPr/>
        </p:nvPicPr>
        <p:blipFill>
          <a:blip r:embed="rId4"/>
          <a:stretch/>
        </p:blipFill>
        <p:spPr>
          <a:xfrm rot="20370000">
            <a:off x="5241600" y="360324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6" descr="C:\Users\kadach_tg\Desktop\0_1146b0_759023cd_S.png"/>
          <p:cNvPicPr/>
          <p:nvPr/>
        </p:nvPicPr>
        <p:blipFill>
          <a:blip r:embed="rId5"/>
          <a:stretch/>
        </p:blipFill>
        <p:spPr>
          <a:xfrm rot="354600">
            <a:off x="4711320" y="4906800"/>
            <a:ext cx="765360" cy="83052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7" descr="C:\Users\kadach_tg\Desktop\5a8ad4ab9ea93161ae4ebe82.png"/>
          <p:cNvPicPr/>
          <p:nvPr/>
        </p:nvPicPr>
        <p:blipFill>
          <a:blip r:embed="rId6"/>
          <a:stretch/>
        </p:blipFill>
        <p:spPr>
          <a:xfrm>
            <a:off x="4789440" y="5010120"/>
            <a:ext cx="514440" cy="609480"/>
          </a:xfrm>
          <a:prstGeom prst="rect">
            <a:avLst/>
          </a:prstGeom>
          <a:ln w="0">
            <a:noFill/>
          </a:ln>
        </p:spPr>
      </p:pic>
      <p:cxnSp>
        <p:nvCxnSpPr>
          <p:cNvPr id="2089" name="Соединительная линия уступом 15"/>
          <p:cNvCxnSpPr>
            <a:stCxn id="2086" idx="1"/>
          </p:cNvCxnSpPr>
          <p:nvPr/>
        </p:nvCxnSpPr>
        <p:spPr>
          <a:xfrm rot="10800000">
            <a:off x="4193280" y="3493440"/>
            <a:ext cx="1072440" cy="627840"/>
          </a:xfrm>
          <a:prstGeom prst="bentConnector3">
            <a:avLst>
              <a:gd name="adj1" fmla="val 39758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090" name="Соединительная линия уступом 21"/>
          <p:cNvCxnSpPr>
            <a:stCxn id="2087" idx="1"/>
          </p:cNvCxnSpPr>
          <p:nvPr/>
        </p:nvCxnSpPr>
        <p:spPr>
          <a:xfrm rot="10800000">
            <a:off x="3276000" y="4868280"/>
            <a:ext cx="1437120" cy="415080"/>
          </a:xfrm>
          <a:prstGeom prst="bentConnector3">
            <a:avLst>
              <a:gd name="adj1" fmla="val 100225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091" name="Прямоугольник 49"/>
          <p:cNvSpPr/>
          <p:nvPr/>
        </p:nvSpPr>
        <p:spPr>
          <a:xfrm>
            <a:off x="6081840" y="3925800"/>
            <a:ext cx="191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Донец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51"/>
          <p:cNvSpPr/>
          <p:nvPr/>
        </p:nvSpPr>
        <p:spPr>
          <a:xfrm>
            <a:off x="5516640" y="5227560"/>
            <a:ext cx="24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Азовский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55"/>
          <p:cNvSpPr/>
          <p:nvPr/>
        </p:nvSpPr>
        <p:spPr>
          <a:xfrm>
            <a:off x="5516640" y="4653000"/>
            <a:ext cx="2496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Ворошиловский 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Заголовок 3" descr=""/>
          <p:cNvPicPr/>
          <p:nvPr/>
        </p:nvPicPr>
        <p:blipFill>
          <a:blip r:embed="rId7"/>
          <a:stretch/>
        </p:blipFill>
        <p:spPr>
          <a:xfrm>
            <a:off x="5327640" y="2084400"/>
            <a:ext cx="3225960" cy="646200"/>
          </a:xfrm>
          <a:prstGeom prst="rect">
            <a:avLst/>
          </a:prstGeom>
          <a:ln w="0">
            <a:noFill/>
          </a:ln>
        </p:spPr>
      </p:pic>
      <p:sp>
        <p:nvSpPr>
          <p:cNvPr id="2095" name="Прямоугольник 63"/>
          <p:cNvSpPr/>
          <p:nvPr/>
        </p:nvSpPr>
        <p:spPr>
          <a:xfrm>
            <a:off x="5303880" y="2581200"/>
            <a:ext cx="3267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далены за наличие запрещенных средств с повторным допу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 сдаче ГИА-9 в сентябрьски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6" name="Заголовок 3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7" name="Диаграмма 4"/>
          <p:cNvGraphicFramePr/>
          <p:nvPr/>
        </p:nvGraphicFramePr>
        <p:xfrm>
          <a:off x="1452600" y="1596960"/>
          <a:ext cx="3808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596960"/>
                    <a:ext cx="3808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9" name="Picture 3" descr="C:\Users\kadach_tg\Desktop\calculator_yellow.png"/>
          <p:cNvPicPr/>
          <p:nvPr/>
        </p:nvPicPr>
        <p:blipFill>
          <a:blip r:embed="rId4"/>
          <a:stretch/>
        </p:blipFill>
        <p:spPr>
          <a:xfrm rot="20838600">
            <a:off x="1440000" y="1722600"/>
            <a:ext cx="628560" cy="671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C:\Users\kadach_tg\Desktop\142237_mobile_512x512.png"/>
          <p:cNvPicPr/>
          <p:nvPr/>
        </p:nvPicPr>
        <p:blipFill>
          <a:blip r:embed="rId5"/>
          <a:stretch/>
        </p:blipFill>
        <p:spPr>
          <a:xfrm rot="20370000">
            <a:off x="4156200" y="3623760"/>
            <a:ext cx="768240" cy="766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6" descr="C:\Users\kadach_tg\Desktop\0_1146b0_759023cd_S.png"/>
          <p:cNvPicPr/>
          <p:nvPr/>
        </p:nvPicPr>
        <p:blipFill>
          <a:blip r:embed="rId6"/>
          <a:stretch/>
        </p:blipFill>
        <p:spPr>
          <a:xfrm rot="354600">
            <a:off x="1329840" y="3559320"/>
            <a:ext cx="765360" cy="8301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7" descr="C:\Users\kadach_tg\Desktop\5a8ad4ab9ea93161ae4ebe82.png"/>
          <p:cNvPicPr/>
          <p:nvPr/>
        </p:nvPicPr>
        <p:blipFill>
          <a:blip r:embed="rId7"/>
          <a:stretch/>
        </p:blipFill>
        <p:spPr>
          <a:xfrm>
            <a:off x="1407960" y="3662280"/>
            <a:ext cx="514440" cy="609840"/>
          </a:xfrm>
          <a:prstGeom prst="rect">
            <a:avLst/>
          </a:prstGeom>
          <a:ln w="0">
            <a:noFill/>
          </a:ln>
        </p:spPr>
      </p:pic>
      <p:cxnSp>
        <p:nvCxnSpPr>
          <p:cNvPr id="2103" name="Соединительная линия уступом 6"/>
          <p:cNvCxnSpPr>
            <a:stCxn id="2099" idx="3"/>
          </p:cNvCxnSpPr>
          <p:nvPr/>
        </p:nvCxnSpPr>
        <p:spPr>
          <a:xfrm>
            <a:off x="2131920" y="1766520"/>
            <a:ext cx="766080" cy="244800"/>
          </a:xfrm>
          <a:prstGeom prst="bentConnector3">
            <a:avLst>
              <a:gd name="adj1" fmla="val 101316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4" name="Соединительная линия уступом 15"/>
          <p:cNvCxnSpPr/>
          <p:nvPr/>
        </p:nvCxnSpPr>
        <p:spPr>
          <a:xfrm flipV="1" rot="16200000">
            <a:off x="4149360" y="3037680"/>
            <a:ext cx="480240" cy="473760"/>
          </a:xfrm>
          <a:prstGeom prst="bentConnector3">
            <a:avLst>
              <a:gd name="adj1" fmla="val 99549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5" name="Соединительная линия уступом 21"/>
          <p:cNvCxnSpPr>
            <a:stCxn id="2102" idx="0"/>
          </p:cNvCxnSpPr>
          <p:nvPr/>
        </p:nvCxnSpPr>
        <p:spPr>
          <a:xfrm flipH="1" flipV="1" rot="5400000">
            <a:off x="1802160" y="3260160"/>
            <a:ext cx="264240" cy="540360"/>
          </a:xfrm>
          <a:prstGeom prst="bentConnector2">
            <a:avLst/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106" name="Прямоугольник 45"/>
          <p:cNvSpPr/>
          <p:nvPr/>
        </p:nvSpPr>
        <p:spPr>
          <a:xfrm>
            <a:off x="5425920" y="4017960"/>
            <a:ext cx="1822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кс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Овал 1037"/>
          <p:cNvGrpSpPr/>
          <p:nvPr/>
        </p:nvGrpSpPr>
        <p:grpSpPr>
          <a:xfrm>
            <a:off x="7338960" y="3943440"/>
            <a:ext cx="488880" cy="420480"/>
            <a:chOff x="7338960" y="3943440"/>
            <a:chExt cx="488880" cy="420480"/>
          </a:xfrm>
        </p:grpSpPr>
        <p:pic>
          <p:nvPicPr>
            <p:cNvPr id="2108" name="Овал 1037" descr=""/>
            <p:cNvPicPr/>
            <p:nvPr/>
          </p:nvPicPr>
          <p:blipFill>
            <a:blip r:embed="rId8"/>
            <a:stretch/>
          </p:blipFill>
          <p:spPr>
            <a:xfrm>
              <a:off x="7338960" y="39434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>
              <a:off x="7426440" y="402264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Прямоугольник 47"/>
          <p:cNvSpPr/>
          <p:nvPr/>
        </p:nvSpPr>
        <p:spPr>
          <a:xfrm>
            <a:off x="4778280" y="455292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станти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Овал 48"/>
          <p:cNvGrpSpPr/>
          <p:nvPr/>
        </p:nvGrpSpPr>
        <p:grpSpPr>
          <a:xfrm>
            <a:off x="7338960" y="4479840"/>
            <a:ext cx="488880" cy="420840"/>
            <a:chOff x="7338960" y="4479840"/>
            <a:chExt cx="488880" cy="420840"/>
          </a:xfrm>
        </p:grpSpPr>
        <p:pic>
          <p:nvPicPr>
            <p:cNvPr id="2112" name="Овал 48" descr=""/>
            <p:cNvPicPr/>
            <p:nvPr/>
          </p:nvPicPr>
          <p:blipFill>
            <a:blip r:embed="rId9"/>
            <a:stretch/>
          </p:blipFill>
          <p:spPr>
            <a:xfrm>
              <a:off x="7338960" y="447984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"/>
            <p:cNvSpPr/>
            <p:nvPr/>
          </p:nvSpPr>
          <p:spPr>
            <a:xfrm>
              <a:off x="7426440" y="455616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Прямоугольник 49"/>
          <p:cNvSpPr/>
          <p:nvPr/>
        </p:nvSpPr>
        <p:spPr>
          <a:xfrm>
            <a:off x="4778280" y="505944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рты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Овал 50"/>
          <p:cNvGrpSpPr/>
          <p:nvPr/>
        </p:nvGrpSpPr>
        <p:grpSpPr>
          <a:xfrm>
            <a:off x="7338960" y="4992840"/>
            <a:ext cx="488880" cy="420480"/>
            <a:chOff x="7338960" y="4992840"/>
            <a:chExt cx="488880" cy="420480"/>
          </a:xfrm>
        </p:grpSpPr>
        <p:pic>
          <p:nvPicPr>
            <p:cNvPr id="2116" name="Овал 50" descr=""/>
            <p:cNvPicPr/>
            <p:nvPr/>
          </p:nvPicPr>
          <p:blipFill>
            <a:blip r:embed="rId10"/>
            <a:stretch/>
          </p:blipFill>
          <p:spPr>
            <a:xfrm>
              <a:off x="7338960" y="49928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"/>
            <p:cNvSpPr/>
            <p:nvPr/>
          </p:nvSpPr>
          <p:spPr>
            <a:xfrm>
              <a:off x="7426440" y="506880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Прямоугольник 51"/>
          <p:cNvSpPr/>
          <p:nvPr/>
        </p:nvSpPr>
        <p:spPr>
          <a:xfrm>
            <a:off x="4859280" y="55418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арас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Овал 52"/>
          <p:cNvGrpSpPr/>
          <p:nvPr/>
        </p:nvGrpSpPr>
        <p:grpSpPr>
          <a:xfrm>
            <a:off x="7338960" y="5473800"/>
            <a:ext cx="488880" cy="420480"/>
            <a:chOff x="7338960" y="5473800"/>
            <a:chExt cx="488880" cy="420480"/>
          </a:xfrm>
        </p:grpSpPr>
        <p:pic>
          <p:nvPicPr>
            <p:cNvPr id="2120" name="Овал 52" descr=""/>
            <p:cNvPicPr/>
            <p:nvPr/>
          </p:nvPicPr>
          <p:blipFill>
            <a:blip r:embed="rId11"/>
            <a:stretch/>
          </p:blipFill>
          <p:spPr>
            <a:xfrm>
              <a:off x="7338960" y="547380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7426440" y="554976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Прямоугольник 53"/>
          <p:cNvSpPr/>
          <p:nvPr/>
        </p:nvSpPr>
        <p:spPr>
          <a:xfrm>
            <a:off x="5587920" y="1900080"/>
            <a:ext cx="1660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аль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Овал 54"/>
          <p:cNvGrpSpPr/>
          <p:nvPr/>
        </p:nvGrpSpPr>
        <p:grpSpPr>
          <a:xfrm>
            <a:off x="7338960" y="1865160"/>
            <a:ext cx="488880" cy="420840"/>
            <a:chOff x="7338960" y="1865160"/>
            <a:chExt cx="488880" cy="420840"/>
          </a:xfrm>
        </p:grpSpPr>
        <p:pic>
          <p:nvPicPr>
            <p:cNvPr id="2124" name="Овал 54" descr=""/>
            <p:cNvPicPr/>
            <p:nvPr/>
          </p:nvPicPr>
          <p:blipFill>
            <a:blip r:embed="rId12"/>
            <a:stretch/>
          </p:blipFill>
          <p:spPr>
            <a:xfrm>
              <a:off x="7338960" y="186516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"/>
            <p:cNvSpPr/>
            <p:nvPr/>
          </p:nvSpPr>
          <p:spPr>
            <a:xfrm>
              <a:off x="7426440" y="194328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Прямоугольник 55"/>
          <p:cNvSpPr/>
          <p:nvPr/>
        </p:nvSpPr>
        <p:spPr>
          <a:xfrm>
            <a:off x="4152960" y="2273400"/>
            <a:ext cx="3117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Лениинский, Первомайский, Пролетарский рай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Овал 56"/>
          <p:cNvGrpSpPr/>
          <p:nvPr/>
        </p:nvGrpSpPr>
        <p:grpSpPr>
          <a:xfrm>
            <a:off x="7338960" y="2438280"/>
            <a:ext cx="488880" cy="420840"/>
            <a:chOff x="7338960" y="2438280"/>
            <a:chExt cx="488880" cy="420840"/>
          </a:xfrm>
        </p:grpSpPr>
        <p:pic>
          <p:nvPicPr>
            <p:cNvPr id="2128" name="Овал 56" descr=""/>
            <p:cNvPicPr/>
            <p:nvPr/>
          </p:nvPicPr>
          <p:blipFill>
            <a:blip r:embed="rId13"/>
            <a:stretch/>
          </p:blipFill>
          <p:spPr>
            <a:xfrm>
              <a:off x="7338960" y="243828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"/>
            <p:cNvSpPr/>
            <p:nvPr/>
          </p:nvSpPr>
          <p:spPr>
            <a:xfrm>
              <a:off x="7426440" y="2516040"/>
              <a:ext cx="311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Прямоугольник 57"/>
          <p:cNvSpPr/>
          <p:nvPr/>
        </p:nvSpPr>
        <p:spPr>
          <a:xfrm>
            <a:off x="5711760" y="3063960"/>
            <a:ext cx="153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Зв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Овал 58"/>
          <p:cNvGrpSpPr/>
          <p:nvPr/>
        </p:nvGrpSpPr>
        <p:grpSpPr>
          <a:xfrm>
            <a:off x="7338960" y="2975040"/>
            <a:ext cx="488880" cy="420480"/>
            <a:chOff x="7338960" y="2975040"/>
            <a:chExt cx="488880" cy="420480"/>
          </a:xfrm>
        </p:grpSpPr>
        <p:pic>
          <p:nvPicPr>
            <p:cNvPr id="2132" name="Овал 58" descr=""/>
            <p:cNvPicPr/>
            <p:nvPr/>
          </p:nvPicPr>
          <p:blipFill>
            <a:blip r:embed="rId14"/>
            <a:stretch/>
          </p:blipFill>
          <p:spPr>
            <a:xfrm>
              <a:off x="7338960" y="29750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7426440" y="305424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Прямоугольник 59"/>
          <p:cNvSpPr/>
          <p:nvPr/>
        </p:nvSpPr>
        <p:spPr>
          <a:xfrm>
            <a:off x="5210280" y="3449520"/>
            <a:ext cx="2038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Овал 60"/>
          <p:cNvGrpSpPr/>
          <p:nvPr/>
        </p:nvGrpSpPr>
        <p:grpSpPr>
          <a:xfrm>
            <a:off x="7334280" y="3438360"/>
            <a:ext cx="487440" cy="420840"/>
            <a:chOff x="7334280" y="3438360"/>
            <a:chExt cx="487440" cy="420840"/>
          </a:xfrm>
        </p:grpSpPr>
        <p:pic>
          <p:nvPicPr>
            <p:cNvPr id="2136" name="Овал 60" descr=""/>
            <p:cNvPicPr/>
            <p:nvPr/>
          </p:nvPicPr>
          <p:blipFill>
            <a:blip r:embed="rId15"/>
            <a:stretch/>
          </p:blipFill>
          <p:spPr>
            <a:xfrm>
              <a:off x="7334280" y="3438360"/>
              <a:ext cx="487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7" name=""/>
            <p:cNvSpPr/>
            <p:nvPr/>
          </p:nvSpPr>
          <p:spPr>
            <a:xfrm>
              <a:off x="7421400" y="3516480"/>
              <a:ext cx="311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Заголовок 3" descr=""/>
          <p:cNvPicPr/>
          <p:nvPr/>
        </p:nvPicPr>
        <p:blipFill>
          <a:blip r:embed="rId16"/>
          <a:stretch/>
        </p:blipFill>
        <p:spPr>
          <a:xfrm>
            <a:off x="1427040" y="4443480"/>
            <a:ext cx="3164040" cy="64620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оугольник 104"/>
          <p:cNvSpPr/>
          <p:nvPr/>
        </p:nvSpPr>
        <p:spPr>
          <a:xfrm>
            <a:off x="1376280" y="4940280"/>
            <a:ext cx="3267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зультаты ЕГЭ аннул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 итогам просмотра архива видеозапи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Номер слайда 3"/>
          <p:cNvSpPr/>
          <p:nvPr/>
        </p:nvSpPr>
        <p:spPr>
          <a:xfrm>
            <a:off x="8675640" y="5697360"/>
            <a:ext cx="46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3CD7-470A-4622-B21B-289EEDAE5842}" type="slidenum">
              <a:rPr b="0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8"/>
          <p:cNvSpPr/>
          <p:nvPr/>
        </p:nvSpPr>
        <p:spPr>
          <a:xfrm>
            <a:off x="184320" y="2202480"/>
            <a:ext cx="8635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ая информационная и разъяснительная работа с обучающимися и их родителями – желают изменить перечень предметов, не знают регламента проведения экзаменов  в форме ОГЭ и ГВЭ, не знают процедуры оформления апелля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трольность процесса проведения экзамена в ППЭ (нарушения организаторов,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исутствие учителей предмет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рганизация обучения выпускников: ознакомление с моделями экзаменов, изучение правил заполнения бланков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 http://fipi.ru/; oge-i-gve-9/g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аботников ППЭ, руководителей ППЭ,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 председателей и членов ТЭК, ТПК, 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4"/>
          <p:cNvSpPr/>
          <p:nvPr/>
        </p:nvSpPr>
        <p:spPr>
          <a:xfrm>
            <a:off x="1116000" y="1385640"/>
            <a:ext cx="783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блемы и вопросы, требующие особого внимания при организации подготовки к проведению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44" name="Picture 2" descr="http://cf.ppt-online.org/files/slide/e/egnR3fbJaZlNHrTdjwOo6IxhWYPGtz5ys8Eq19/slide-33.jpg"/>
          <p:cNvPicPr/>
          <p:nvPr/>
        </p:nvPicPr>
        <p:blipFill>
          <a:blip r:embed="rId1"/>
          <a:stretch/>
        </p:blipFill>
        <p:spPr>
          <a:xfrm>
            <a:off x="0" y="-457200"/>
            <a:ext cx="9685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ЕГЭ, ОГЭ -201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50920" y="1557360"/>
            <a:ext cx="86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олучить знания – дело долгое и трудное, а показать результаты своих достижений еще сложнее: как будет проходить ЕГЭ и ОГЭ в 2019 году и какие изменения в эти экзамены внесло Министерство образования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уть к достижению своих целей нелегок, и приходится с малых лет «бороться и искать». Первые школьники, имеющие опыт прохождения сдачи ЕГЭ и ОГЭ уже окончили ВУЗы и колледжи, а что предстоит сегодняшним будущим выпускникам школ, сколько предметов надо будет сдавать в 2019 году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Итоговое сочинени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287280" y="1268280"/>
            <a:ext cx="86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роводится в первую среду декабря, поэтому в 2018 году оно будет назначено на  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декабря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Любой ученик, не сдавший сочинение с первой попытки, может ее повторить, но в случае повторного провала придется отложить все экзамены на следующий год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явление на участие в ЕГЭ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февраля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ача заявления для участия в ГИА-9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марта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явление</a:t>
            </a: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Досрочный период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перио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езервные д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полнительный период (сентябрьские сроки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08000" y="297000"/>
            <a:ext cx="7956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Расписание экзаменов в 9 и 11 класса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ssandra"/>
              </a:rPr>
              <a:t>В 11 классе два обязательных экзамена: русский язык и математика 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900000" y="1160640"/>
            <a:ext cx="79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Математика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стобалльной систем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едметы по выбору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946" name="Рисунок 4" descr="http://steshka.ru/wp-content/uploads/2015/05/kartinki_shkola_deti_uchitelya_7.jpg"/>
          <p:cNvPicPr/>
          <p:nvPr/>
        </p:nvPicPr>
        <p:blipFill>
          <a:blip r:embed="rId1"/>
          <a:stretch/>
        </p:blipFill>
        <p:spPr>
          <a:xfrm>
            <a:off x="0" y="180828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ГИА - 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863640" y="119664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оличество экзаме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вятиклассники должны сдать четыре экзамена: </a:t>
            </a: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два обязательных экзамена по русскому языку и математик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и два обязательных экзамена по выбору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 числа учебных предметов: физика, химия, биология, литература, география, история, обществознание, иностранные языки, информатика и ИКТ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8-11-26T18:25:24Z</dcterms:modified>
  <cp:revision>66</cp:revision>
  <dc:subject/>
  <dc:title>Слайд 1</dc:title>
</cp:coreProperties>
</file>